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3143-5160-471D-A5E1-DDA5763ED96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2FA1-D7A8-4BD4-BE18-DAAC343FD4F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chiedene Ansichten von Ontologi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zter Punkt: Kategorie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ist für uns vor allem interessa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6D66-1043-47AF-B809-672FFAD270F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-weight ontology model. Basically knows classes and properties . Partial order on inheritance so we can express equivalence by cyclic inheritance hierarchy. Pretty much OO like, so to sa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schema. So edges may be there that have never been declared as a property, also edges that have been declared might not be used for some object. We don‘t have t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Null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efined on their ow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nsider storage we can have unary predicates for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x:Employee) and unary predicates for class membership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which of course leads to duplicates x:Employee(x:Rapha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attributes and associations to speak in OO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‘t belong to the class, instead they are first class enti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possibly have (mulitple) domains and ranges, thus a property can validly be applied to any member of a class in it‘s domain and can point to any member of a class in it‘s rang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73C7-D655-4C8A-8264-6D4681C314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CC27-9399-45DC-91B1-216DEB5350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848B-F91B-4A79-818A-2A59379DB2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7F5A-7104-48E7-A0ED-B88AAC4A60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9A76-D938-4DCD-84AD-4D5E3EB6B6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54EB-352E-4E32-9A41-1EFB1A8555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F2A5-5FB3-43CE-A9B0-6AED67544E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F55F-0E20-4F5D-AE88-AE352555F5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BC6B-23AC-41C0-BBD4-2C826BDCFB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1024-3D6F-4627-8E3F-B841B82C4A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0D56-58B4-43EA-9AD4-AEB311DBE6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F84E-4A94-4971-9B2D-B699283130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12712320" y="94230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E6F8-DD00-4D72-BE6D-3CFD45E1A37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hyperlink" Target="http://www.semantic-web-grundlagen.de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A8D8-58F0-4614-B824-5B7AF87449E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CD90-3815-4911-B706-C925F004C89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355680" y="2514240"/>
            <a:ext cx="123444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 Recommendation seit 2004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mantisches Fragment von FO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ei Variante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Lit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DL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eine Reifikation in OWL D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➔ RDFS ist Fragment von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DL ist entscheidba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ntspricht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cmbsy10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D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-Dokumente (Vorlesungswebseite) enthalten Details, die hier nicht alle angesprochen werden könn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- Allgemeines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4326-C55A-46C1-9561-0F64D2E292D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76DF-94CE-4BCA-842D-C1A77300925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oku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nd RDF Dokumente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zumindest in der Standard-Syntax; es gibt auch andere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tehen au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pf mit allgemeinen Angab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st mit der eigentlichen Ontologi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041A-67E7-4283-889B-04D133B3A1F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0840" y="2285640"/>
            <a:ext cx="130050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von Namespaces in der Wurz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semanticweb-grundlagen.de/beispielontologie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1999/02/22-rdf-syntax-ns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1/XML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0/01/rdf-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ow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2/07/owl#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C891-8881-4265-8795-F5527CCF31E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Informationen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tology rdf:about="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com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http://www.w3.org/2001/XMLSchema#string“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WRC Ontologie in der Version vom Dezember 2005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comment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versionInfo&gt;v0.5&lt;/owl:versionInfo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mports rdf:resource="http://www.semanticweb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undlagen.de/foo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priorVersi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http://ontoware.org/projects/swrc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tology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A6BC-8D40-4753-AACB-1E26C073FDD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461016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n RDFS geerb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ußerd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197760" y="2316240"/>
            <a:ext cx="64515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Versionieru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DA48-279D-4861-AB1B-1727EB3961E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8A39-F7F2-4971-ABAB-57AA4786B73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, Rollen und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 drei Bausteine von Ontologieaxio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Klass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Objekt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Properties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A7F5-4A2B-4FA3-A9A4-171490B0D42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definiert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1175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yntax &amp; Intuition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Picture 12" descr=""/>
          <p:cNvPicPr/>
          <p:nvPr/>
        </p:nvPicPr>
        <p:blipFill>
          <a:blip r:embed="rId2"/>
          <a:srcRect l="33175" t="42792" r="44279" b="39723"/>
          <a:stretch/>
        </p:blipFill>
        <p:spPr>
          <a:xfrm>
            <a:off x="8940960" y="5829480"/>
            <a:ext cx="965160" cy="7743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3"/>
          <p:cNvSpPr/>
          <p:nvPr/>
        </p:nvSpPr>
        <p:spPr>
          <a:xfrm>
            <a:off x="647640" y="579132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Rectangle 64"/>
          <p:cNvSpPr/>
          <p:nvPr/>
        </p:nvSpPr>
        <p:spPr>
          <a:xfrm>
            <a:off x="0" y="9461520"/>
            <a:ext cx="1463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5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semantic-web-grundlagen.de/index.php/Kapitel_5</a:t>
            </a: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Rectangle 65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78820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 presetSubtype="933544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4BF3-281A-4F28-9691-0FBDEB79DF8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durch Klassenzugehörigkei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ID="RudiStuder"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#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leichbedeutend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682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E5E6-A16B-4CC8-B95B-DC7C45CC9BF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strak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66800" y="2387160"/>
            <a:ext cx="11880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strakte Rollen werden definiert wi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ID="Zugehoerigkeit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omain und Range abstrakter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CDFA-56BA-4A9B-8D55-3A0C9AB4819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kre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70040" y="2387520"/>
            <a:ext cx="11874240" cy="882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konkrete Rollen haben Datentypen im Range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	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omain und Range konkreter Roll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 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rdf:resource="&amp;xsd;string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atatypeProperty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iele XML Datentypen können verwendet werden.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Im Standard vorgeschrieben si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4570-55E2-4851-9355-D0B5868C887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98320" y="99720"/>
            <a:ext cx="11048760" cy="212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61600" y="2417400"/>
            <a:ext cx="11876040" cy="73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Rud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AIFB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ontopris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orname rdf:datatype="&amp;xsd;string"&gt;Rudi&lt;/Vo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sind im allgemeinen nicht funktional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A5E7-F39D-4D26-8F46-75E62278911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8C84-7A62-4CDB-87AD-2E98C279ADC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90320" y="23871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6DE7-A544-4E66-A562-8BA042C1F1D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benfalls disjunkte Klassen sind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CB14-61E2-4499-99ED-379D0B2D337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66640" y="21333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ublika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ublic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ation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ECBA-8CE8-4B28-A2A1-A3D70BC6DF1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49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ch rdf:ID="SemanticWebGrundlage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PascalHitzl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MarkusKrötzsc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SebastianRudolp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YorkSur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ch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SemanticWebGrundlage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ein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katio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FDD6-ED9C-4474-8B9C-4AA4A7444C6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8572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0172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#RudiStuder"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rofessor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Stud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erschiedenheit von Individuen mittel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78A4-DDE3-465A-93A2-9A946F64BBD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5C93-A26F-49E4-92BC-B07FF6A2529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625400" y="2007720"/>
            <a:ext cx="1104876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tinctMember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RudiStud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YorkSure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PascalHitzl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istinctMember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bgekürzte Schreibweise anstelle der Verwendung von mehrer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r Einsatz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ist nur dafür vorgese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148608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8952-7DD5-4C7C-B495-FB1CF5461D8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62576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GiselaSchilling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BeateKuehn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s besagt, dass es nur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genau diese beid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gib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72D5-1BD0-47ED-9964-A77D7C22AEC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3C07-987A-4793-80C7-F246C1204F8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ogische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Und (Kon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Oder (Dis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Nicht (Nega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rden verwendet, um komplexe Klassen aus einfachen Klassen zu konstruier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DA81-3944-4746-AF87-2B7F77A9B50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  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ngehoerigeAGStud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intersection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folgt z.B. durch Inferenz, dass all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auch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sind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76F7-B646-45A1-A5AE-E19A8063F5E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s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23520" y="20192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ktivLehre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imRuhesta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un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B857-FBCE-430F-8052-0BB5E7EA3D7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eg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71640" y="2387160"/>
            <a:ext cx="11571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mantisch äquivalente Aussag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DC6D-ED33-487B-91C9-E73E91390FE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8572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allValuesFrom)</a:t>
            </a:r>
            <a:endParaRPr b="0" lang="en-US" sz="57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11876040" cy="863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ienen der Definition komplexer Klassen durch Roll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rofesso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alle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einer Prüfung müssen Professoren sei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C553-9288-40AE-AC1E-8AE38A51EB7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950760" y="1752120"/>
            <a:ext cx="1187640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jede Prüfung muss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mindestens einen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someValuesFrom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41FC-C0C1-4006-A992-3E34995DB47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863640" y="2412720"/>
            <a:ext cx="128779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ax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ne Prüfung kann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8E7A-E005-4C3D-A933-50AA67BBB9A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EE6D-548A-447C-8371-9BEDA4CE1C1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6D92-C342-417A-9C6F-705ED6DD31D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1026720" y="23385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&amp;xsd;nonNegativeInteger"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inCardinality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indestens drei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DB90-264A-419A-9FC6-5BCF67B61FA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1331640" y="21099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genau drei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336D-B9B7-4495-81EA-9C2E040611A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396800" y="1980720"/>
            <a:ext cx="1187604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Rudi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verweist immer auf eine konkrete Instanz. Dies ist äquivalent zum Beispiel auf der nächsten Folie.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E627-5FCA-45E4-BD17-0978F86B402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636560" y="1804680"/>
            <a:ext cx="11876400" cy="88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omeValuesFrom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eOf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Thing rdf:about="#RudiStud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omeValuesFrom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1AEB-9175-411C-90F8-CC9A56B216F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8A43-D412-4C4D-88D0-0156DE635B0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752120" y="22604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Property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hatAnwesend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benso: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equivalentProperty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können auch invers zueinander sei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nverseOf rdf:resource="#prueferV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8311-349C-4448-84F0-03EDAD83D23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Domain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ange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Transitivität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b,c) impliziert r(a,c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Symmetrie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impliziert r(b,a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a,c) impliziert b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Inverse 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c,b) impliziert a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13E8-CBD0-4D45-9151-A26282AB154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36480" y="317520"/>
            <a:ext cx="1104876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777680" y="1828440"/>
            <a:ext cx="126493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st gleichbedeutend mit dem Folgend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\&amp;owl;Thing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Zugehoerigkeit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ValuesFrom rdf:resource="#Organisation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BF31-5000-487A-AE75-5BC6B410C80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1104912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: Vorsicht!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838160" y="2109960"/>
            <a:ext cx="116748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ahl rdf:ID="Fuenf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Primzahl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Zahl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nun, dass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zahl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eine Organisation ist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01B1-B9F8-4065-A2F3-855A48612F8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1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1587600" y="2022480"/>
            <a:ext cx="1090908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Kollegen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Transitive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Symmetric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ojektleit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istProjektleiterFu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Inverse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YorkSure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AnupriyaAnkoleka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stProjektleiterFuer rdf:resource="#SEKT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kt rdf:ID="SmartWeb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HitzlerPascal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kt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1314-FD01-4358-8A46-26CAD3CCFEB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073160" y="1803240"/>
            <a:ext cx="1104912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griff existiert nur in der Einzahl (es gibt also keine „Ontologien“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di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„Lehre vom Sein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 finden bei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Aristoteles (Sokrates), Thomas von Aquin, Descartes, Kant, Hegel, Wittgenstein, Heidegger, Quine, 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philosophisch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EC2D-111E-4800-A95A-D06F768F4D0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Folgerungen aus dem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55680" y="2387160"/>
            <a:ext cx="122918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YorkSur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PascalHitzl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calHitzler owl:sameAs HitzlerPasc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793D-8408-493F-B49E-7CF52628530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3D52-B382-417B-9403-F26CB1606AA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773E-EBEA-41AA-8D52-C5186D2E73F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Ful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894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eingeschränkte Nutzung aller OWL und RDFS-Sprachelemente (muss gültiges RDFS sein)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wierig z.B.: nicht vorhandene Typentrennung (Klassen, Rollen, Individuen), dadurch: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esource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 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ubklasse von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BA85-E9B9-4A3E-AA68-791F464DB04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1393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Beispiel für Typendurchmischung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in OWL Full</a:t>
            </a:r>
            <a:endParaRPr b="0" lang="en-US" sz="5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60020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gl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gl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anzoes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v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anzoes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en über solche Konstrukte werden oft nicht wirklich benötig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6F06-0BA5-42B9-AF90-745D127E63E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ur Verwendung von explizit erlaubten RDFS Sprachelementen (z.B. die in unseren Beispielen).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Typentrennung. Klassen und Rollen müssen explizit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Konkrete Rollen dürfen nicht als transitiv, symmetrisch, invers oder invers funktional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Zahlenrestriktionen dürfen nicht mit transitiven Rollen, deren Subrollen, oder Inversen davon verwende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66CF-C97B-45E5-911D-536310D5270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Li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e Einschränkungen für OWL D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ßerde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Of, unionOf, complementOf, hasValue, disjointWit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ahlenrestriktionen nur mit 0 und 1 erlaub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ige Einschränkungen zum Auftreten von anonymen (komplexen) Klassen, z.B. nur im Subjekt vo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2C58-5F06-4629-869A-5747B097439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7541-7417-4633-B67C-47D01CDCA47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86080" y="25200"/>
            <a:ext cx="112773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Terminologisch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nur Klassen und Roll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568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Subklassen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Disjunktheit von Klas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globale Konsistenz (Erfüllbarkeit, Widerspruchsfreiheit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konsistenz: Eine Klasse 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konsistent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, wenn sie äquivalent zu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st - dies deutet oft auf einen Modellierungsfehler hin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2E4C-283A-472E-99A2-418AEAAE519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36840" y="12600"/>
            <a:ext cx="112773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Assertional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mit Individu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stanzüberprüfung: Gehört gegebenes Individuum zu gegebener Klass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, die in einer Klasse enthalten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Werden zwei gegebene Individuen durch Rolle verknüpft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paaren, die durch eine Rolle verknüpft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...Vorsicht: es wird nur nach „beweisbaren“ Antworten gesucht!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24F0-B0DF-4946-AA67-B2F8DE5F1D5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 informatisch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9360" y="214632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ber (1993)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Ontology is a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formal specific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shared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conceptualiz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doma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of interest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321600" y="4506840"/>
            <a:ext cx="6680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chinell interpretierb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ruht auf Konse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chreibt Begrifflichkei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zogen auf ein „Thema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(Gegenstandsberei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ED98-4ED2-4C6F-A667-6A42CC37E55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Werkzeu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359000" y="2082960"/>
            <a:ext cx="12191760" cy="808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Editor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rotegé, http://protege.stanford.edu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SWOOP, http://www.mindswap.org/2004/SWOOP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OWL Tools, http://owltools.ontoware.org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Inferenzmaschin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ellet, http://www.mindswap.org/2003/pellet/index.s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KAON2, http://kaon2.semanticweb.org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FACT++, http://owl.man.ac.uk/factplusplus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Racer, http://www.racer-systems.com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Cerebra, http://www.cerebra.com/index.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DD04-91A4-4EAD-861B-5305AF36AC4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0F7D-3E8A-4DDA-ABBB-D838EDB8539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55320" y="2315880"/>
            <a:ext cx="6553080" cy="74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op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6707160" y="2109960"/>
            <a:ext cx="542304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ungen zwischen Individu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zusammen 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rgeschriebene Datenty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stro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integ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55EC-AF13-481A-A9F0-B25107270C5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4230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lassenkonstruktoren und -beziehung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6616800" y="2387520"/>
            <a:ext cx="5422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restriktio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0DE7-A44F-48CD-948A-E13E25B9F45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665280" y="2214360"/>
            <a:ext cx="1167264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konstruktoren, -beziehungen und -eigenschaf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Property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verse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Transitive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Symmetric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Inverse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5F39-0820-469F-BAC1-660463348F0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führende 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7730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4/OWL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ntrale W3C Webseite fü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feature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Überblick übe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ref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llständige Beschreibung der OWL-Sprachkomponent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guide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gt, wie OWL zur Wissensmodellierung verwendet werden kan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semantic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chreibt die Semantik von OWL, die wir auf andere Weise später behandeln werden. Es beschreibt außerdem die abstrakte Syntax für OWL DL, die wir hier später noch ansprec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utsche Übersetzungen mancher W3C Dokumente findet man u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5/11/Translations/Lists/ListLang-de.htm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BED1-173B-43E6-ACF5-7085CB7424F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1280" y="-318960"/>
            <a:ext cx="11049120" cy="20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Ontologie – praktisch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Einige Anforderungen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990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Instanziierung von Klassen durch Individu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griffshierarchien (Taxonomien, „Vererbung“)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ssen, Begriffe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inäre Relationen zwischen Individuen: Properties, Role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genschaften von Relationen (z.B. range, transitive)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tentypen (z.B. Zahlen): concrete domain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logische Ausdrucksmitt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re Semantik!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3E7D-B206-40E8-9C13-88DE22458AD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9" name="Group 1"/>
          <p:cNvGrpSpPr/>
          <p:nvPr/>
        </p:nvGrpSpPr>
        <p:grpSpPr>
          <a:xfrm>
            <a:off x="190440" y="4241880"/>
            <a:ext cx="1625760" cy="546120"/>
            <a:chOff x="190440" y="4241880"/>
            <a:chExt cx="1625760" cy="546120"/>
          </a:xfrm>
        </p:grpSpPr>
        <p:sp>
          <p:nvSpPr>
            <p:cNvPr id="390" name="Oval 2"/>
            <p:cNvSpPr/>
            <p:nvPr/>
          </p:nvSpPr>
          <p:spPr>
            <a:xfrm>
              <a:off x="190440" y="4241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Rectangle 3"/>
            <p:cNvSpPr/>
            <p:nvPr/>
          </p:nvSpPr>
          <p:spPr>
            <a:xfrm>
              <a:off x="416520" y="434880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2" name="Group 4"/>
          <p:cNvGrpSpPr/>
          <p:nvPr/>
        </p:nvGrpSpPr>
        <p:grpSpPr>
          <a:xfrm>
            <a:off x="1282680" y="3048120"/>
            <a:ext cx="1625760" cy="546120"/>
            <a:chOff x="1282680" y="3048120"/>
            <a:chExt cx="1625760" cy="546120"/>
          </a:xfrm>
        </p:grpSpPr>
        <p:sp>
          <p:nvSpPr>
            <p:cNvPr id="393" name="Oval 5"/>
            <p:cNvSpPr/>
            <p:nvPr/>
          </p:nvSpPr>
          <p:spPr>
            <a:xfrm>
              <a:off x="128268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Rectangle 6"/>
            <p:cNvSpPr/>
            <p:nvPr/>
          </p:nvSpPr>
          <p:spPr>
            <a:xfrm>
              <a:off x="1481400" y="315504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5" name="Group 7"/>
          <p:cNvGrpSpPr/>
          <p:nvPr/>
        </p:nvGrpSpPr>
        <p:grpSpPr>
          <a:xfrm>
            <a:off x="5931000" y="4013280"/>
            <a:ext cx="1625400" cy="546120"/>
            <a:chOff x="5931000" y="4013280"/>
            <a:chExt cx="1625400" cy="546120"/>
          </a:xfrm>
        </p:grpSpPr>
        <p:sp>
          <p:nvSpPr>
            <p:cNvPr id="396" name="Oval 8"/>
            <p:cNvSpPr/>
            <p:nvPr/>
          </p:nvSpPr>
          <p:spPr>
            <a:xfrm>
              <a:off x="5931000" y="4013280"/>
              <a:ext cx="162540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7" name="Rectangle 9"/>
            <p:cNvSpPr/>
            <p:nvPr/>
          </p:nvSpPr>
          <p:spPr>
            <a:xfrm>
              <a:off x="6012360" y="413280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8" name="Group 10"/>
          <p:cNvGrpSpPr/>
          <p:nvPr/>
        </p:nvGrpSpPr>
        <p:grpSpPr>
          <a:xfrm>
            <a:off x="4203720" y="3048120"/>
            <a:ext cx="1625760" cy="546120"/>
            <a:chOff x="4203720" y="3048120"/>
            <a:chExt cx="1625760" cy="546120"/>
          </a:xfrm>
        </p:grpSpPr>
        <p:sp>
          <p:nvSpPr>
            <p:cNvPr id="399" name="Oval 11"/>
            <p:cNvSpPr/>
            <p:nvPr/>
          </p:nvSpPr>
          <p:spPr>
            <a:xfrm>
              <a:off x="420372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0" name="Rectangle 12"/>
            <p:cNvSpPr/>
            <p:nvPr/>
          </p:nvSpPr>
          <p:spPr>
            <a:xfrm>
              <a:off x="4510440" y="315504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2577960" y="3911760"/>
            <a:ext cx="1625760" cy="546120"/>
            <a:chOff x="2577960" y="3911760"/>
            <a:chExt cx="1625760" cy="546120"/>
          </a:xfrm>
        </p:grpSpPr>
        <p:sp>
          <p:nvSpPr>
            <p:cNvPr id="402" name="Oval 14"/>
            <p:cNvSpPr/>
            <p:nvPr/>
          </p:nvSpPr>
          <p:spPr>
            <a:xfrm>
              <a:off x="2577960" y="391176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3" name="Rectangle 15"/>
            <p:cNvSpPr/>
            <p:nvPr/>
          </p:nvSpPr>
          <p:spPr>
            <a:xfrm>
              <a:off x="2998080" y="4018680"/>
              <a:ext cx="782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Tut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2577960" y="1955880"/>
            <a:ext cx="1625760" cy="546120"/>
            <a:chOff x="2577960" y="1955880"/>
            <a:chExt cx="1625760" cy="546120"/>
          </a:xfrm>
        </p:grpSpPr>
        <p:sp>
          <p:nvSpPr>
            <p:cNvPr id="405" name="Oval 17"/>
            <p:cNvSpPr/>
            <p:nvPr/>
          </p:nvSpPr>
          <p:spPr>
            <a:xfrm>
              <a:off x="2577960" y="1955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6" name="Rectangle 18"/>
            <p:cNvSpPr/>
            <p:nvPr/>
          </p:nvSpPr>
          <p:spPr>
            <a:xfrm>
              <a:off x="2861640" y="2062800"/>
              <a:ext cx="1055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s:Clas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07" name="AutoShape 19"/>
          <p:cNvSpPr/>
          <p:nvPr/>
        </p:nvSpPr>
        <p:spPr>
          <a:xfrm flipH="1" rot="10800000">
            <a:off x="1002240" y="3525840"/>
            <a:ext cx="507960" cy="689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20"/>
          <p:cNvSpPr/>
          <p:nvPr/>
        </p:nvSpPr>
        <p:spPr>
          <a:xfrm rot="10800000">
            <a:off x="2664000" y="3525840"/>
            <a:ext cx="149040" cy="44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21"/>
          <p:cNvSpPr/>
          <p:nvPr/>
        </p:nvSpPr>
        <p:spPr>
          <a:xfrm flipH="1" rot="10800000">
            <a:off x="3964320" y="3525840"/>
            <a:ext cx="473400" cy="442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22"/>
          <p:cNvSpPr/>
          <p:nvPr/>
        </p:nvSpPr>
        <p:spPr>
          <a:xfrm rot="10800000">
            <a:off x="5591160" y="3525840"/>
            <a:ext cx="582480" cy="550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AutoShape 23"/>
          <p:cNvSpPr/>
          <p:nvPr/>
        </p:nvSpPr>
        <p:spPr>
          <a:xfrm flipH="1" rot="5400000">
            <a:off x="4849560" y="1605960"/>
            <a:ext cx="1847880" cy="310176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AutoShape 24"/>
          <p:cNvSpPr/>
          <p:nvPr/>
        </p:nvSpPr>
        <p:spPr>
          <a:xfrm rot="16200000">
            <a:off x="459360" y="2202120"/>
            <a:ext cx="2063880" cy="21254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Line 25"/>
          <p:cNvSpPr/>
          <p:nvPr/>
        </p:nvSpPr>
        <p:spPr>
          <a:xfrm flipV="1">
            <a:off x="3390120" y="2520720"/>
            <a:ext cx="180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4" name="Group 26"/>
          <p:cNvGrpSpPr/>
          <p:nvPr/>
        </p:nvGrpSpPr>
        <p:grpSpPr>
          <a:xfrm>
            <a:off x="190440" y="5207040"/>
            <a:ext cx="1625760" cy="546120"/>
            <a:chOff x="190440" y="5207040"/>
            <a:chExt cx="1625760" cy="546120"/>
          </a:xfrm>
        </p:grpSpPr>
        <p:sp>
          <p:nvSpPr>
            <p:cNvPr id="415" name="Oval 27"/>
            <p:cNvSpPr/>
            <p:nvPr/>
          </p:nvSpPr>
          <p:spPr>
            <a:xfrm>
              <a:off x="19044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6" name="Rectangle 28"/>
            <p:cNvSpPr/>
            <p:nvPr/>
          </p:nvSpPr>
          <p:spPr>
            <a:xfrm>
              <a:off x="641160" y="5313960"/>
              <a:ext cx="72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udi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17" name="Group 29"/>
          <p:cNvGrpSpPr/>
          <p:nvPr/>
        </p:nvGrpSpPr>
        <p:grpSpPr>
          <a:xfrm>
            <a:off x="5397480" y="5207040"/>
            <a:ext cx="1625760" cy="546120"/>
            <a:chOff x="5397480" y="5207040"/>
            <a:chExt cx="1625760" cy="546120"/>
          </a:xfrm>
        </p:grpSpPr>
        <p:sp>
          <p:nvSpPr>
            <p:cNvPr id="418" name="Oval 30"/>
            <p:cNvSpPr/>
            <p:nvPr/>
          </p:nvSpPr>
          <p:spPr>
            <a:xfrm>
              <a:off x="539748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9" name="Rectangle 31"/>
            <p:cNvSpPr/>
            <p:nvPr/>
          </p:nvSpPr>
          <p:spPr>
            <a:xfrm>
              <a:off x="5763960" y="5313960"/>
              <a:ext cx="88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Dani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0" name="Group 32"/>
          <p:cNvGrpSpPr/>
          <p:nvPr/>
        </p:nvGrpSpPr>
        <p:grpSpPr>
          <a:xfrm>
            <a:off x="2362320" y="5207040"/>
            <a:ext cx="1625400" cy="546120"/>
            <a:chOff x="2362320" y="5207040"/>
            <a:chExt cx="1625400" cy="546120"/>
          </a:xfrm>
        </p:grpSpPr>
        <p:sp>
          <p:nvSpPr>
            <p:cNvPr id="421" name="Oval 33"/>
            <p:cNvSpPr/>
            <p:nvPr/>
          </p:nvSpPr>
          <p:spPr>
            <a:xfrm>
              <a:off x="2362320" y="5207040"/>
              <a:ext cx="162540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2" name="Rectangle 34"/>
            <p:cNvSpPr/>
            <p:nvPr/>
          </p:nvSpPr>
          <p:spPr>
            <a:xfrm>
              <a:off x="2639160" y="5313960"/>
              <a:ext cx="106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apha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3" name="AutoShape 35"/>
          <p:cNvSpPr/>
          <p:nvPr/>
        </p:nvSpPr>
        <p:spPr>
          <a:xfrm rot="10800000">
            <a:off x="2095200" y="3605040"/>
            <a:ext cx="507960" cy="1663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Line 36"/>
          <p:cNvSpPr/>
          <p:nvPr/>
        </p:nvSpPr>
        <p:spPr>
          <a:xfrm flipV="1">
            <a:off x="1003320" y="4797000"/>
            <a:ext cx="1440" cy="392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AutoShape 37"/>
          <p:cNvSpPr/>
          <p:nvPr/>
        </p:nvSpPr>
        <p:spPr>
          <a:xfrm rot="10800000">
            <a:off x="5016240" y="3605040"/>
            <a:ext cx="615960" cy="16639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AutoShape 38"/>
          <p:cNvSpPr/>
          <p:nvPr/>
        </p:nvSpPr>
        <p:spPr>
          <a:xfrm rot="16200000">
            <a:off x="4575960" y="3672720"/>
            <a:ext cx="768240" cy="24242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AutoShape 39"/>
          <p:cNvSpPr/>
          <p:nvPr/>
        </p:nvSpPr>
        <p:spPr>
          <a:xfrm flipH="1" rot="10800000">
            <a:off x="2094480" y="2442960"/>
            <a:ext cx="723960" cy="57924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AutoShape 40"/>
          <p:cNvSpPr/>
          <p:nvPr/>
        </p:nvSpPr>
        <p:spPr>
          <a:xfrm rot="10800000">
            <a:off x="3965040" y="2442960"/>
            <a:ext cx="1049400" cy="5792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1"/>
          <p:cNvSpPr/>
          <p:nvPr/>
        </p:nvSpPr>
        <p:spPr>
          <a:xfrm flipV="1">
            <a:off x="8115480" y="325080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2"/>
          <p:cNvSpPr/>
          <p:nvPr/>
        </p:nvSpPr>
        <p:spPr>
          <a:xfrm flipV="1">
            <a:off x="8115480" y="389844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Rectangle 43"/>
          <p:cNvSpPr/>
          <p:nvPr/>
        </p:nvSpPr>
        <p:spPr>
          <a:xfrm>
            <a:off x="8190000" y="3338640"/>
            <a:ext cx="122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ubCla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44"/>
          <p:cNvSpPr/>
          <p:nvPr/>
        </p:nvSpPr>
        <p:spPr>
          <a:xfrm>
            <a:off x="8184600" y="4076640"/>
            <a:ext cx="1895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nstanziieru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6885000" y="2247840"/>
            <a:ext cx="190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4" name="Group 46"/>
          <p:cNvGrpSpPr/>
          <p:nvPr/>
        </p:nvGrpSpPr>
        <p:grpSpPr>
          <a:xfrm>
            <a:off x="5219640" y="6464160"/>
            <a:ext cx="1955880" cy="546120"/>
            <a:chOff x="5219640" y="6464160"/>
            <a:chExt cx="1955880" cy="546120"/>
          </a:xfrm>
        </p:grpSpPr>
        <p:sp>
          <p:nvSpPr>
            <p:cNvPr id="435" name="Oval 47"/>
            <p:cNvSpPr/>
            <p:nvPr/>
          </p:nvSpPr>
          <p:spPr>
            <a:xfrm>
              <a:off x="5219640" y="646416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6" name="Rectangle 48"/>
            <p:cNvSpPr/>
            <p:nvPr/>
          </p:nvSpPr>
          <p:spPr>
            <a:xfrm>
              <a:off x="5606640" y="657108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5219640" y="7327800"/>
            <a:ext cx="1955880" cy="546120"/>
            <a:chOff x="5219640" y="7327800"/>
            <a:chExt cx="1955880" cy="546120"/>
          </a:xfrm>
        </p:grpSpPr>
        <p:sp>
          <p:nvSpPr>
            <p:cNvPr id="438" name="Oval 50"/>
            <p:cNvSpPr/>
            <p:nvPr/>
          </p:nvSpPr>
          <p:spPr>
            <a:xfrm>
              <a:off x="5219640" y="732780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9" name="Rectangle 51"/>
            <p:cNvSpPr/>
            <p:nvPr/>
          </p:nvSpPr>
          <p:spPr>
            <a:xfrm>
              <a:off x="5460480" y="743472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0" name="Group 52"/>
          <p:cNvGrpSpPr/>
          <p:nvPr/>
        </p:nvGrpSpPr>
        <p:grpSpPr>
          <a:xfrm>
            <a:off x="7924680" y="5816520"/>
            <a:ext cx="1955880" cy="546120"/>
            <a:chOff x="7924680" y="5816520"/>
            <a:chExt cx="1955880" cy="546120"/>
          </a:xfrm>
        </p:grpSpPr>
        <p:sp>
          <p:nvSpPr>
            <p:cNvPr id="441" name="Oval 53"/>
            <p:cNvSpPr/>
            <p:nvPr/>
          </p:nvSpPr>
          <p:spPr>
            <a:xfrm>
              <a:off x="7924680" y="581652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2" name="Rectangle 54"/>
            <p:cNvSpPr/>
            <p:nvPr/>
          </p:nvSpPr>
          <p:spPr>
            <a:xfrm>
              <a:off x="8506800" y="5923440"/>
              <a:ext cx="796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ai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3" name="Group 55"/>
          <p:cNvGrpSpPr/>
          <p:nvPr/>
        </p:nvGrpSpPr>
        <p:grpSpPr>
          <a:xfrm>
            <a:off x="8039160" y="8953560"/>
            <a:ext cx="1955880" cy="546120"/>
            <a:chOff x="8039160" y="8953560"/>
            <a:chExt cx="1955880" cy="546120"/>
          </a:xfrm>
        </p:grpSpPr>
        <p:sp>
          <p:nvSpPr>
            <p:cNvPr id="444" name="Oval 56"/>
            <p:cNvSpPr/>
            <p:nvPr/>
          </p:nvSpPr>
          <p:spPr>
            <a:xfrm>
              <a:off x="8039160" y="89535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5" name="Rectangle 57"/>
            <p:cNvSpPr/>
            <p:nvPr/>
          </p:nvSpPr>
          <p:spPr>
            <a:xfrm>
              <a:off x="8372160" y="9060480"/>
              <a:ext cx="1282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uper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6" name="Group 58"/>
          <p:cNvGrpSpPr/>
          <p:nvPr/>
        </p:nvGrpSpPr>
        <p:grpSpPr>
          <a:xfrm>
            <a:off x="8039160" y="6896160"/>
            <a:ext cx="1955880" cy="546120"/>
            <a:chOff x="8039160" y="6896160"/>
            <a:chExt cx="1955880" cy="546120"/>
          </a:xfrm>
        </p:grpSpPr>
        <p:sp>
          <p:nvSpPr>
            <p:cNvPr id="447" name="Oval 59"/>
            <p:cNvSpPr/>
            <p:nvPr/>
          </p:nvSpPr>
          <p:spPr>
            <a:xfrm>
              <a:off x="8039160" y="68961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8" name="Rectangle 60"/>
            <p:cNvSpPr/>
            <p:nvPr/>
          </p:nvSpPr>
          <p:spPr>
            <a:xfrm>
              <a:off x="8513640" y="7003080"/>
              <a:ext cx="1000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ad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9" name="Group 61"/>
          <p:cNvGrpSpPr/>
          <p:nvPr/>
        </p:nvGrpSpPr>
        <p:grpSpPr>
          <a:xfrm>
            <a:off x="5334120" y="8953560"/>
            <a:ext cx="1955520" cy="546120"/>
            <a:chOff x="5334120" y="8953560"/>
            <a:chExt cx="1955520" cy="546120"/>
          </a:xfrm>
        </p:grpSpPr>
        <p:sp>
          <p:nvSpPr>
            <p:cNvPr id="450" name="Oval 62"/>
            <p:cNvSpPr/>
            <p:nvPr/>
          </p:nvSpPr>
          <p:spPr>
            <a:xfrm>
              <a:off x="533412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1" name="Rectangle 63"/>
            <p:cNvSpPr/>
            <p:nvPr/>
          </p:nvSpPr>
          <p:spPr>
            <a:xfrm>
              <a:off x="569736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2" name="Group 64"/>
          <p:cNvGrpSpPr/>
          <p:nvPr/>
        </p:nvGrpSpPr>
        <p:grpSpPr>
          <a:xfrm>
            <a:off x="10858680" y="8953560"/>
            <a:ext cx="1955520" cy="546120"/>
            <a:chOff x="10858680" y="8953560"/>
            <a:chExt cx="1955520" cy="546120"/>
          </a:xfrm>
        </p:grpSpPr>
        <p:sp>
          <p:nvSpPr>
            <p:cNvPr id="453" name="Oval 65"/>
            <p:cNvSpPr/>
            <p:nvPr/>
          </p:nvSpPr>
          <p:spPr>
            <a:xfrm>
              <a:off x="1085868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4" name="Rectangle 66"/>
            <p:cNvSpPr/>
            <p:nvPr/>
          </p:nvSpPr>
          <p:spPr>
            <a:xfrm>
              <a:off x="1122444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5" name="Group 67"/>
          <p:cNvGrpSpPr/>
          <p:nvPr/>
        </p:nvGrpSpPr>
        <p:grpSpPr>
          <a:xfrm>
            <a:off x="10858680" y="5816520"/>
            <a:ext cx="1955520" cy="546120"/>
            <a:chOff x="10858680" y="5816520"/>
            <a:chExt cx="1955520" cy="546120"/>
          </a:xfrm>
        </p:grpSpPr>
        <p:sp>
          <p:nvSpPr>
            <p:cNvPr id="456" name="Oval 68"/>
            <p:cNvSpPr/>
            <p:nvPr/>
          </p:nvSpPr>
          <p:spPr>
            <a:xfrm>
              <a:off x="10858680" y="581652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Rectangle 69"/>
            <p:cNvSpPr/>
            <p:nvPr/>
          </p:nvSpPr>
          <p:spPr>
            <a:xfrm>
              <a:off x="11332440" y="5923440"/>
              <a:ext cx="99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:Litera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8" name="Group 70"/>
          <p:cNvGrpSpPr/>
          <p:nvPr/>
        </p:nvGrpSpPr>
        <p:grpSpPr>
          <a:xfrm>
            <a:off x="10858680" y="6896160"/>
            <a:ext cx="1955520" cy="546120"/>
            <a:chOff x="10858680" y="6896160"/>
            <a:chExt cx="1955520" cy="546120"/>
          </a:xfrm>
        </p:grpSpPr>
        <p:sp>
          <p:nvSpPr>
            <p:cNvPr id="459" name="Oval 71"/>
            <p:cNvSpPr/>
            <p:nvPr/>
          </p:nvSpPr>
          <p:spPr>
            <a:xfrm>
              <a:off x="10858680" y="68961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Rectangle 72"/>
            <p:cNvSpPr/>
            <p:nvPr/>
          </p:nvSpPr>
          <p:spPr>
            <a:xfrm>
              <a:off x="11326680" y="700308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1" name="AutoShape 73"/>
          <p:cNvSpPr/>
          <p:nvPr/>
        </p:nvSpPr>
        <p:spPr>
          <a:xfrm rot="10800000">
            <a:off x="7191000" y="6730560"/>
            <a:ext cx="1133640" cy="22068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AutoShape 74"/>
          <p:cNvSpPr/>
          <p:nvPr/>
        </p:nvSpPr>
        <p:spPr>
          <a:xfrm flipH="1">
            <a:off x="7190640" y="7378560"/>
            <a:ext cx="1133640" cy="2224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Line 75"/>
          <p:cNvSpPr/>
          <p:nvPr/>
        </p:nvSpPr>
        <p:spPr>
          <a:xfrm>
            <a:off x="10009080" y="716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Line 76"/>
          <p:cNvSpPr/>
          <p:nvPr/>
        </p:nvSpPr>
        <p:spPr>
          <a:xfrm>
            <a:off x="9901080" y="6083280"/>
            <a:ext cx="935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Line 77"/>
          <p:cNvSpPr/>
          <p:nvPr/>
        </p:nvSpPr>
        <p:spPr>
          <a:xfrm>
            <a:off x="10009080" y="923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Line 78"/>
          <p:cNvSpPr/>
          <p:nvPr/>
        </p:nvSpPr>
        <p:spPr>
          <a:xfrm flipH="1">
            <a:off x="7299360" y="9232920"/>
            <a:ext cx="71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79"/>
          <p:cNvSpPr/>
          <p:nvPr/>
        </p:nvSpPr>
        <p:spPr>
          <a:xfrm>
            <a:off x="7364520" y="635004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Rectangle 80"/>
          <p:cNvSpPr/>
          <p:nvPr/>
        </p:nvSpPr>
        <p:spPr>
          <a:xfrm>
            <a:off x="7364520" y="75438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Rectangle 81"/>
          <p:cNvSpPr/>
          <p:nvPr/>
        </p:nvSpPr>
        <p:spPr>
          <a:xfrm>
            <a:off x="7148520" y="93852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82"/>
          <p:cNvSpPr/>
          <p:nvPr/>
        </p:nvSpPr>
        <p:spPr>
          <a:xfrm>
            <a:off x="9901080" y="618012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83"/>
          <p:cNvSpPr/>
          <p:nvPr/>
        </p:nvSpPr>
        <p:spPr>
          <a:xfrm>
            <a:off x="9966240" y="93232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84"/>
          <p:cNvSpPr/>
          <p:nvPr/>
        </p:nvSpPr>
        <p:spPr>
          <a:xfrm>
            <a:off x="9920160" y="670716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3" name="Group 85"/>
          <p:cNvGrpSpPr/>
          <p:nvPr/>
        </p:nvGrpSpPr>
        <p:grpSpPr>
          <a:xfrm>
            <a:off x="8039160" y="7975440"/>
            <a:ext cx="1955880" cy="546120"/>
            <a:chOff x="8039160" y="7975440"/>
            <a:chExt cx="1955880" cy="546120"/>
          </a:xfrm>
        </p:grpSpPr>
        <p:sp>
          <p:nvSpPr>
            <p:cNvPr id="474" name="Oval 86"/>
            <p:cNvSpPr/>
            <p:nvPr/>
          </p:nvSpPr>
          <p:spPr>
            <a:xfrm>
              <a:off x="8039160" y="797544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5" name="Rectangle 87"/>
            <p:cNvSpPr/>
            <p:nvPr/>
          </p:nvSpPr>
          <p:spPr>
            <a:xfrm>
              <a:off x="8164800" y="8094960"/>
              <a:ext cx="1698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esponsible_f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6" name="Line 88"/>
          <p:cNvSpPr/>
          <p:nvPr/>
        </p:nvSpPr>
        <p:spPr>
          <a:xfrm>
            <a:off x="9016920" y="7458120"/>
            <a:ext cx="180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Line 89"/>
          <p:cNvSpPr/>
          <p:nvPr/>
        </p:nvSpPr>
        <p:spPr>
          <a:xfrm flipV="1">
            <a:off x="9016200" y="8542080"/>
            <a:ext cx="180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Rectangle 90"/>
          <p:cNvSpPr/>
          <p:nvPr/>
        </p:nvSpPr>
        <p:spPr>
          <a:xfrm>
            <a:off x="9191160" y="75438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91"/>
          <p:cNvSpPr/>
          <p:nvPr/>
        </p:nvSpPr>
        <p:spPr>
          <a:xfrm>
            <a:off x="9191160" y="85644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Rectangle 92"/>
          <p:cNvSpPr/>
          <p:nvPr/>
        </p:nvSpPr>
        <p:spPr>
          <a:xfrm>
            <a:off x="2232720" y="7340760"/>
            <a:ext cx="267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lation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Rectangle 93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S - einfache Ontologi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0FAC-DF31-40E2-9AC2-C26185CF53E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 Schema als Ontologiesprache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eeignet für 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teil: automatisches Schlussfolgern ist relativ effizien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für komplexere Modellierungen ungeeigne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ückgriff auf mächtigere Sprachen, wi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W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-Logi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30:16Z</dcterms:created>
  <dc:creator/>
  <dc:description/>
  <cp:keywords/>
  <dc:language>en-US</dc:language>
  <cp:lastModifiedBy>Sebastian Rudolph</cp:lastModifiedBy>
  <dcterms:modified xsi:type="dcterms:W3CDTF">2009-12-10T00:03:23Z</dcterms:modified>
  <cp:revision>9</cp:revision>
  <dc:subject/>
  <dc:title>Grundlagen Semantic Web</dc:title>
</cp:coreProperties>
</file>